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035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069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dt" idx="3"/>
          </p:nvPr>
        </p:nvSpPr>
        <p:spPr>
          <a:xfrm>
            <a:off x="4278240" y="-36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4"/>
          </p:nvPr>
        </p:nvSpPr>
        <p:spPr>
          <a:xfrm>
            <a:off x="0" y="1015488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 type="sldNum" idx="5"/>
          </p:nvPr>
        </p:nvSpPr>
        <p:spPr>
          <a:xfrm>
            <a:off x="4278240" y="1015488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10238-9328-4E88-BD05-3F9CF53BACDD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2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4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6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8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0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2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4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6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50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18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20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2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4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6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8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0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D625D-51E1-4863-8BB7-CB1B3CA376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9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36680"/>
            <a:ext cx="9029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45B2B-8C17-488F-903D-9EEA67CC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036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EA9FE-C32D-471A-9489-74C07AD8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6440" y="176796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9600" y="176796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3668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6440" y="403668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9600" y="403668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EF4A1-F2D7-400F-A251-FEB48CB188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29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D7762-413A-43B7-9E3B-99A8C8CB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9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E14A-BD74-4A84-B3A1-F2799758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FD46D-FEB2-4799-8D57-909D2878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5016-6E06-440F-B75B-AB28AB62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2952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4888C-81C0-41EB-8FCA-339E353A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5D82-77B8-447D-9548-C794CF46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36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C56D-75D1-45C4-B100-54B48B12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36680"/>
            <a:ext cx="9029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AB3BC-A89C-48B1-9840-C8314B9C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29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7046640"/>
            <a:ext cx="230652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2 septembre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891280" y="7046640"/>
            <a:ext cx="230652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CC077-9A78-499D-B600-F621A7F93CA0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1280" y="0"/>
            <a:ext cx="1800" cy="7559640"/>
          </a:xfrm>
          <a:prstGeom prst="line">
            <a:avLst/>
          </a:prstGeom>
          <a:ln cap="sq" w="72000">
            <a:solidFill>
              <a:srgbClr val="ff95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47280" y="3384720"/>
            <a:ext cx="90709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anneaux d’affichage dynamique et To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46800" y="144360"/>
            <a:ext cx="2689200" cy="1079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20720" y="4680000"/>
            <a:ext cx="8783640" cy="1440"/>
          </a:xfrm>
          <a:prstGeom prst="line">
            <a:avLst/>
          </a:prstGeom>
          <a:ln cap="sq"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9280" y="2952720"/>
            <a:ext cx="8640720" cy="1440"/>
          </a:xfrm>
          <a:prstGeom prst="line">
            <a:avLst/>
          </a:prstGeom>
          <a:ln cap="sq"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00360" y="3816360"/>
            <a:ext cx="64087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0720" y="1008000"/>
            <a:ext cx="8724960" cy="490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B3E05-23ED-41E5-8E5B-75D4F3B93B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944640"/>
            <a:ext cx="7561080" cy="567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D88D-0BED-4CC5-80CC-685D8CBE224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2680" y="760320"/>
            <a:ext cx="8053560" cy="604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1D8F-172D-4FF1-9F55-208B8543039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55600" y="866880"/>
            <a:ext cx="7767720" cy="582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812F-C684-43D1-925E-3E586FB9003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2600" y="1609560"/>
            <a:ext cx="7715160" cy="434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ABF5D-F0DC-44FD-A3F9-BA1984619E8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30280" y="1749600"/>
            <a:ext cx="7218360" cy="406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13AC9-09DD-44A6-A585-4A3B14D33EE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152360"/>
            <a:ext cx="2772000" cy="4927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10800000">
            <a:off x="5688000" y="2139120"/>
            <a:ext cx="3240000" cy="18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5A3AA-C0C4-467E-9274-9BC29C65EA3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0720" y="647640"/>
            <a:ext cx="5040360" cy="106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64360" y="647640"/>
            <a:ext cx="3024000" cy="3597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57080" y="2038320"/>
            <a:ext cx="3635640" cy="2425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264360" y="4464000"/>
            <a:ext cx="30798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38360" y="5002200"/>
            <a:ext cx="3509640" cy="14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A362-249D-431F-9B16-B5A95890396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92000" y="515880"/>
            <a:ext cx="2332080" cy="2076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23960" y="2824200"/>
            <a:ext cx="3238560" cy="372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19680" y="360360"/>
            <a:ext cx="3840120" cy="2303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176720" y="2917800"/>
            <a:ext cx="5143320" cy="75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896000" y="4005360"/>
            <a:ext cx="40766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967280" y="6416640"/>
            <a:ext cx="3932280" cy="63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14CBA-CB3F-4241-A3D3-78546EC4988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5400000">
            <a:off x="-333720" y="1775880"/>
            <a:ext cx="6148440" cy="3459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5400000">
            <a:off x="4130280" y="1823760"/>
            <a:ext cx="6145200" cy="34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94B4-FC64-4E50-984D-6E3BD8D6524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3280" y="144360"/>
            <a:ext cx="9066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36720" y="1944720"/>
            <a:ext cx="878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950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771640" y="755640"/>
            <a:ext cx="453564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15671-972D-4609-A18D-323E961D9F3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20720" y="792000"/>
            <a:ext cx="5291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81200" y="1494000"/>
            <a:ext cx="851688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95C8-8D88-45E4-ADCF-E8B8F44ECC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19160" y="765000"/>
            <a:ext cx="8042400" cy="603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0A9C-9678-4815-8ABA-3D83C8C337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50880" y="431640"/>
            <a:ext cx="4605480" cy="2590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543640" y="431640"/>
            <a:ext cx="3655800" cy="6500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47640" y="3270240"/>
            <a:ext cx="4552920" cy="256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42EC5-0B29-4138-B0F8-26683237F3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08200" y="1400040"/>
            <a:ext cx="8462880" cy="475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1386-54C0-4F2B-83EF-EF920EDD61D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84360" y="1152360"/>
            <a:ext cx="2597040" cy="461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75280" y="1152360"/>
            <a:ext cx="257040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98A7C-16F7-4482-9A48-4CF7EE4629D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6120" y="1405080"/>
            <a:ext cx="8448480" cy="47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512C-D77C-4EBC-9FFE-A24EB4C8F2C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0000" y="1452600"/>
            <a:ext cx="8278920" cy="46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0972-8380-476B-8FB0-2372C029EB6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09:22:00Z</dcterms:created>
  <dc:creator/>
  <dc:description/>
  <dc:language>en-US</dc:language>
  <cp:lastModifiedBy/>
  <dcterms:modified xsi:type="dcterms:W3CDTF">2016-09-23T10:13:47Z</dcterms:modified>
  <cp:revision>22</cp:revision>
  <dc:subject/>
  <dc:title/>
</cp:coreProperties>
</file>